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0AD-751A-48C9-83B2-FC85C04F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905-6ADB-4760-BD21-4E679C5B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E77-5ACA-42BD-A744-D47454BB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B2B-981A-4732-8312-0027DCFE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25E-297E-44F5-A3D1-E997B74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1ED-28C5-47B4-934D-DADFD02E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77B-1E74-4175-9DF2-D766BAF4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81E-3639-4A68-98CB-8F82ACAF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B6E-3D1E-499C-AA8D-9894C5C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B0E-DA7F-4005-8ED0-10CF1B5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822-69DA-4B21-B67D-78FC3B2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046-F650-41BF-95BF-84F178E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A06-2CEA-4BB5-9032-EA3447CB4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esta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e with the correct form of SER or E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ingles _________ abur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éctor y Luisa _________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de Urugu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_ en Puerto R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fetería y el laboratorio ________ en el sót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rge _________una persona sinc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sa ____________ en Nueva Jers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contento 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6 nh 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4 de abril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036800"/>
            <a:ext cx="83818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; use at least 2 sentences to describe each patient (one using SER and another using 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2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8 (1-8) and WRITE if the sentence describes an ORIGIN or a COLOCA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3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0:35:23Z</dcterms:created>
  <dc:creator>Helen Zumaeta</dc:creator>
  <dc:description/>
  <dc:language>en-US</dc:language>
  <cp:lastModifiedBy>Helen Zumaeta</cp:lastModifiedBy>
  <cp:lastPrinted>2013-04-08T12:38:11Z</cp:lastPrinted>
  <dcterms:modified xsi:type="dcterms:W3CDTF">2013-04-24T17:18:37Z</dcterms:modified>
  <cp:revision>13</cp:revision>
  <dc:subject/>
  <dc:title>Me llamo ___________ Clase 7 IM La fecha es el 28 de abril del 2011</dc:title>
</cp:coreProperties>
</file>